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88A-0830-4A16-9B78-4C4BB4F5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92C-50BF-4D05-89E9-592FD80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3B8-1F2C-4EF1-9F91-C7DC8EBC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5BB-9CD0-422B-9152-3F74856E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950-035F-4338-82FD-208C44EF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59F2-B7EA-406D-AF63-85D13939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0AA1-BB03-4388-941D-18DF976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0EE5-EBA4-456F-AE1F-1407E8A0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9A9-B3C7-474A-8A15-955B2477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40E-CAF5-4419-9B44-8EFB67C1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6FB-769F-4494-BB4B-44F3D13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2AA-75AD-4851-8536-BE4B4ABF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0B33-F793-4964-959F-660197C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E1A3-9211-409D-8689-3C578E8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BB63-98B0-454F-B47B-DF5417E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54B9-233E-4231-8286-C96CE402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0DE4-E588-412B-B94F-1660C30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D5E8-7035-41B6-8CEB-0699EED4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9F8C-EFC4-4CF7-9026-42BDA7E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FE67-E0CA-40EF-8E03-DBC818DA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8994-D501-40BE-9C03-DAF51D45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CCC8-617A-4D97-8FC2-A2E51E41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8BB-4579-4669-A8CE-A1068FC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00D1-AE83-4E12-97E6-535679E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8483-1C48-46D0-91E1-11FF238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15D7-DEDC-4FFA-86E4-C6B6E3F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8B9E-B06E-48AC-A631-48BD9A3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A58F-EFA2-4EB2-87C8-FC10B77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FB9B-6D87-4807-B23F-95D9400C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6818-33A7-46EA-ADE0-91B3506F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7C22-1B8A-4DD0-8B38-04F7A5C1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16CB-418D-4FDD-986E-683BFB58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487FE-1CCC-4CD3-96B1-EDC5B6B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6AF-5EF9-4C4C-AFB0-1BB5483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431C-BD2B-4C3E-A3B4-41A32A9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B47C-F897-4CB5-8367-CE2AC16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F75F-2A32-443E-9EB5-6B50D29A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0756-8E4F-4BB9-ABCC-3E2FDBD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F6C1-8278-4613-BEC7-F54DA6A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F712-E402-4673-B91E-B275C9A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19A8-993A-48DB-A171-8DFA97EC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0DA4-B56D-4555-837C-752627CA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A325-CE69-4F10-87D4-74A1539D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6B6-ACE1-45B5-8965-9393252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C9D-E113-4527-8DE7-B0C8549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F37-AE61-4BB3-97F1-5C2C6AA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DEE-18CA-43DA-BE98-73E9D4A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DE3-FF93-4010-AC7C-828E5B9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AF5-9BB1-4362-8220-CFE89AF5362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D79-C3F9-48F9-9510-5F61375E36B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6C9-6911-4CF4-9083-21DBCBA90A9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DC37-1CCF-4BE3-A887-B936065A1DD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Ol7lrNuOnk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d9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 и транслација-анимација процес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ских задата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a транскрипције и трансл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8360" y="2924280"/>
            <a:ext cx="8229600" cy="1296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fOl7lrNuOn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 вежб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обле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задатака  3.12, 3.14 и 3.1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бирка решених задатака из генетике 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. 2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44:24Z</dcterms:created>
  <dc:creator>Olivera Milosevic-Djordjevic</dc:creator>
  <dc:description/>
  <dc:language>en-US</dc:language>
  <cp:lastModifiedBy>Olivera Milošević-Đorđević</cp:lastModifiedBy>
  <dcterms:modified xsi:type="dcterms:W3CDTF">2023-08-28T16:56:30Z</dcterms:modified>
  <cp:revision>136</cp:revision>
  <dc:subject/>
  <dc:title>Функција наследне основе  Репликација, транскрипција, транслација</dc:title>
</cp:coreProperties>
</file>